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CB0-CB9A-40C7-914A-FD8EA4D0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0573-2C29-40FA-9D43-D4785B54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5E3-2118-48B6-A56A-020F79E3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72F-AB22-491F-86C9-9EBA2431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311-0BA9-457C-B1B3-3648962A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B25-E08F-4A89-95EF-1527B8F2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F6AB-EBCB-4183-B6B2-54CF25EC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231-734B-4404-B286-0F6B0D74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3B0-EEE7-4375-B8CD-615E3708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D14-3130-4246-A859-F4905D68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9F7-D58B-4D75-B894-0A87DC22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87E-1262-4A39-8876-3D5B522B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228A-6E78-4F78-A563-ADB9587267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2408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  <a:cs typeface="Simplified Arabic"/>
              </a:rPr>
              <a:t>برنامج حماة المستقب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ff0000"/>
                </a:solidFill>
                <a:latin typeface="Arial"/>
                <a:cs typeface="Simplified Arabic"/>
              </a:rPr>
              <a:t>الدورة التدريبية الثالث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ff0000"/>
                </a:solidFill>
                <a:latin typeface="Arial"/>
                <a:cs typeface="Simplified Arabic"/>
              </a:rPr>
              <a:t>لإعــداد المدرب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عمّان _ المملكة الأردنية الهاش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01- 06/03/2005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257800" y="1371600"/>
          <a:ext cx="76212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371600"/>
                    <a:ext cx="7621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9880" y="129528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09880" y="36360"/>
            <a:ext cx="1287720" cy="1258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14600" y="1409760"/>
            <a:ext cx="990720" cy="79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7EC-9E9D-46CD-89D8-1E9982483A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533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يكون شعوري عندما يطلب منك تقديم عرض ما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05200" y="1376280"/>
            <a:ext cx="42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اثق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8920" y="1951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خائف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5920" y="2527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غير واثق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755880"/>
            <a:ext cx="9144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99"/>
                </a:solidFill>
                <a:latin typeface="Arial"/>
                <a:cs typeface="Simplified Arabic"/>
              </a:rPr>
              <a:t>في الثانية والثالثة ... لا تخف فهذا شيء طبيع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99"/>
                </a:solidFill>
                <a:latin typeface="Arial"/>
                <a:ea typeface="Simplified Arabic"/>
              </a:rPr>
              <a:t>( فمعظم الناس لديهم هذا الشعور 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309C-D12B-419D-9B22-59998A7CBE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8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هناك نقاط يجب أن انتبه لها إذا أردت أن يتذكر الناس محاضرت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7080" y="2290680"/>
            <a:ext cx="898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انطباع الأول والانطباع الأخير تجاه الحضور هو ما يجعل المحاضرة إيجابية ومفض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3581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حدد النقاط بما يتفق مع رغبات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920" y="4449600"/>
            <a:ext cx="902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عطي مختصراً عاماً قبل الدخول في تفاصيل النقا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3F4-382F-4381-8D5B-CFDF73EACB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33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هناك نقاط يجب أن انتبه لها إذا أردت أن يتذكر الناس محاضرت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7080" y="1986120"/>
            <a:ext cx="898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كثر من وسيلة إحساس استعمالها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( الكلام والوسائل البصرية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6146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أسعى لمعرفة التغذية الراجع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5920" y="3270240"/>
            <a:ext cx="90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تحدّث عن مشاكلهم واحتياجات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E07-5685-498C-96E8-77F5C1E93F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808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كيف أبدأ ؟ البداية كيف تكون؟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200" y="1550880"/>
            <a:ext cx="88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cs typeface="Simplified Arabic"/>
              </a:rPr>
              <a:t>هناك طريقتان لبدء المحاضرة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2200320"/>
            <a:ext cx="41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800000"/>
                </a:solidFill>
                <a:latin typeface="Arial"/>
                <a:ea typeface="Simplified Arabic"/>
              </a:rPr>
              <a:t>* بشكل رسم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836800"/>
            <a:ext cx="776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صباح الخير، أرحب بكم في هذا الصباح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37116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800000"/>
                </a:solidFill>
                <a:latin typeface="Arial"/>
                <a:ea typeface="Simplified Arabic"/>
              </a:rPr>
              <a:t>* بشكل غير رسم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348080"/>
            <a:ext cx="8677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حاول شد انتباه الحضور بشكل أكبر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كسر الحاجز النفسي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199-F1E1-4DD5-BD8A-427D136087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33720" y="138924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فاجئ الحضور بأشياء لا يعرف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687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ذكّرهم بشيء يعرفونه ”السنة الماضية عندما كنت هنا قلت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087640"/>
            <a:ext cx="63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سأل سؤال عام ... غير مباش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52360" y="2666880"/>
            <a:ext cx="93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شجّع فضول الحضور لشيء ما،،، ليس من الضروري أن أحصل على جواب من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29732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عرض عليهم شيئاً يشاهدونه ” فيلم، إحصائية،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252360" y="4952880"/>
            <a:ext cx="93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بدأ معهم بشكل حيوي وهام واجعل ذلك واضحاً على وجه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668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عرض عليهم حقائق وأرقام لها علاقة بالموضو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كيف أبدأ ؟ البداية كيف تكون؟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325C-A120-420C-9EBE-2DEE4D5093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9720" y="533520"/>
            <a:ext cx="100868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حدث الدراسات النفسية أوضحت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5159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الشخص بإمكانه أن يفكر بمعدل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80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كلمة في الدقيقة.. والمدرب يتحدث بمعدل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12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كلمة في الدقيق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81080" y="2390760"/>
            <a:ext cx="93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يعني ذلك أن تعطي المستمع شيئاً ممتعـاً للوقت المتبقي 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680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كلمة فـي الدقيق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325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المخ يذهب في مرحلة ”الإقفال الأوتوماتيكي“ بعد عشر دقائق من الحديث، إذا لم يعطى شيئاً ينشط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6240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يعني ذلك أن علينا تنويع مصادر الإرسال والأدوات المستعم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697-53AA-40C2-9ACD-8E1395AAB8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4920" y="2443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إذا أعطيت الرسالة مرة واحدة فإن المستمع يتذكر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1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% من حديثي بعد سنة، وإذا أعطيت الرسالة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6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مرات فإن نسبة التذكر ترتفع إلى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9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337500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يعني ذلك أن علينا أن نعيد، أن نجدد، أن نراج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60" y="3894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المخ يفضل الأشكال الدائرية والأرقام والألوا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8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دراسات أثبتت أن الحضور في القاعات الخلفية أقل مشاركة من الصفوف الأما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9720" y="1428840"/>
            <a:ext cx="100868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حدث الدراسات النفسية أوضحت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0E4-B43C-44E2-B334-D86EAD990D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2575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تذكّر أنني أملك معلومات، الجمهور يريد أن يستمع إلي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1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علي أن أجيب على أسئلة الحض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276552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لجمهور يريدني  أن انج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54040" y="3341520"/>
            <a:ext cx="76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لجمهور لا يعرف أني خائ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0" y="1547640"/>
            <a:ext cx="895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ea typeface="Simplified Arabic"/>
              </a:rPr>
              <a:t>**  يجب أن أركّز على مهارات إزالة الخوف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949-1BA7-4BEA-9FF3-FDABD25CBF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319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تجاهل الاعتقادات الخاطئة ( بأنني سوف أنسى كل شيء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28600" y="3763800"/>
            <a:ext cx="93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تخيّل أسوأ شيء ممكن أن يحصل (ثم أضع له حلولاً افتراض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ستعمل إيحاءات نفسية داخلية ( أنا أفضل متحدّث في هذا العالم .. أكون أنا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0" y="609480"/>
            <a:ext cx="895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ea typeface="Simplified Arabic"/>
              </a:rPr>
              <a:t>** كيف اواجه الخوف 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8C3-FC28-4A01-866E-8C4D83ECF6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19720" y="533520"/>
            <a:ext cx="7536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يجب أن أسيطر على خوف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قبل أن يسيطر علي .. كيف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2093760"/>
            <a:ext cx="67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فكّر في أشياء إيجابية .. ( سأنجح .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5211720"/>
            <a:ext cx="627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صعد بعض الطوابق واهبط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3246480"/>
            <a:ext cx="67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بادر في مواجهة الخوف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4449600"/>
            <a:ext cx="454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لا اُظهر خوفي للحض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670120"/>
            <a:ext cx="800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333399"/>
                </a:solidFill>
                <a:latin typeface="Arial"/>
                <a:cs typeface="Simplified Arabic"/>
              </a:rPr>
              <a:t>وتزعم أنك جرمٌ صغيرٌ .. وفيك انطوى العالم الأكب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181080" y="375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333399"/>
                </a:solidFill>
                <a:latin typeface="Arial"/>
                <a:cs typeface="Simplified Arabic"/>
              </a:rPr>
              <a:t>لا يبلغ المجد من لم يركب الخطرا .. ولا ينال العلا من قدّم الحذ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C80-8911-4D8F-A387-C53B8D76C1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228600"/>
            <a:ext cx="7993080" cy="76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990000"/>
                </a:solidFill>
                <a:latin typeface="Arial"/>
                <a:cs typeface="PT Bold Heading"/>
              </a:rPr>
              <a:t>بيان من متدرب/ متدرب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990000"/>
                </a:solidFill>
                <a:latin typeface="Arial"/>
                <a:cs typeface="PT Bold Heading"/>
              </a:rPr>
              <a:t>سأكمل الدورة إذا... وفقط إذا...</a:t>
            </a:r>
            <a:r>
              <a:rPr b="1" lang="ar-AE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رغب بالتعلم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كنت أرغب بالاستمرار حتى نهاية الرحلة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ستمتع بالعمل مع الآخرين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وفر الوقت الكافي لأقضيه مع المجتم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عتقد أن بإمكاني أن أؤثر في أداء الآخرين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63F-08E7-4E6C-B8D4-1BE2FC85B0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19720" y="533520"/>
            <a:ext cx="7536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يجب أن أسيطر على خوف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قبل أن يسيطر علي .. كيف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3276720"/>
            <a:ext cx="67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ثاؤب عدة مرات ليسترخي الفكّّ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5135400"/>
            <a:ext cx="62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0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تجنّب التدخ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886200"/>
            <a:ext cx="83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8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مارس التأمّل، وأتخيل أني احاضر والحضور يشيد ب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45165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9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تخيّل أني تلقي حديثاً عظيماً ... وسوف يحدث هذ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745240"/>
            <a:ext cx="83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لا احاول التخلّّص من الخوف .. لأني لن استطيع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81080"/>
            <a:ext cx="836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دريبات شدّ العضلات ( اليدين، الساقين، المعد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2620800"/>
            <a:ext cx="59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آخذ نفساً عميقاً (مراراًً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145-DFA3-4E7B-8FE7-B241F3AA95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86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في بداية البرنامج التدريبي، لا يفكّر المتدرب في المدرب أو في المحتوى التدريبي،وإنما في أوقات الاستراحة،نهاية اليوم التدريبي، الأصوات، الروائ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704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عندما يصل المتدربون إلى قاعة التدريب فإنهم يعانون نوعاً ما من عدم التوازن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083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التميّز في كسر الحاجز النفسي سوف يساعد المتدرب على الاندماج في البرنامج التدري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073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إزالة الخوف من الطرفين، من المتدرب تجاه المدرب أو من المدرب تجاه الحضور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كسر الحاجز النفسي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ea typeface="Simplified Arabic"/>
              </a:rPr>
              <a:t> لماذا نحتاج لذلك ...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1F7-BD3B-497C-BE47-828F4EB6E8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896080" y="2349360"/>
            <a:ext cx="211428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حدد احتياجاته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91080" y="2349360"/>
            <a:ext cx="211428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قصة مفرح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9360" y="236844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طرفة خفيف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13360" y="3276720"/>
            <a:ext cx="2114640" cy="583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قصة حزين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81360" y="3276720"/>
            <a:ext cx="2114640" cy="583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أرقام وإحصائي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9360" y="3276720"/>
            <a:ext cx="2114640" cy="583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عرّف زميل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421308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قواعد الدور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908000" y="331920"/>
            <a:ext cx="5715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أساليب كسر الحاجز النفسي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3681360" y="422100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سؤال غير مباش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9360" y="421308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تجربة شخص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73F-449C-4215-BEEE-220DF0DDE1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3880" y="365040"/>
            <a:ext cx="6121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شروط أسلوب كسر الحاجز النفس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219320"/>
            <a:ext cx="89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تم تجربته مسبقاً وأدى نتائ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828800"/>
            <a:ext cx="890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ه علاقة بالبرنامج التدريبي ( ما أمكن ذلك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38280"/>
            <a:ext cx="89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توجد فيه حيوية ونشا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048120"/>
            <a:ext cx="89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غير معقّد ويتميّز بالترتي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703680"/>
            <a:ext cx="89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متدربون يستمتعون 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920" y="4297320"/>
            <a:ext cx="89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متميّز ومتفرّد ( لم يسبق للمتدربين تجربته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0" y="4906800"/>
            <a:ext cx="89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إيجابي ولا يزعج الآخ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0" y="5592600"/>
            <a:ext cx="89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أن تكون مدته قصيرة ( من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إلى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0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دقائق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B90-C0D3-43A9-8DDC-80F9301AE4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94920" y="-30240"/>
            <a:ext cx="576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المحاضر المتميّز يتبع الآت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07360" y="523800"/>
            <a:ext cx="13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ff"/>
                </a:solidFill>
                <a:latin typeface="Arial"/>
                <a:ea typeface="Simplified Arabic"/>
              </a:rPr>
              <a:t>* </a:t>
            </a:r>
            <a:r>
              <a:rPr b="1" lang="ar-AE" sz="2400" spc="-1" strike="noStrike" u="sng">
                <a:solidFill>
                  <a:srgbClr val="0000ff"/>
                </a:solidFill>
                <a:uFillTx/>
                <a:latin typeface="Arial"/>
                <a:cs typeface="Simplified Arabic"/>
              </a:rPr>
              <a:t>المقدم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6720" y="25653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ff"/>
                </a:solidFill>
                <a:latin typeface="Arial"/>
                <a:ea typeface="Simplified Arabic"/>
              </a:rPr>
              <a:t>* </a:t>
            </a:r>
            <a:r>
              <a:rPr b="1" lang="ar-AE" sz="2400" spc="-1" strike="noStrike" u="sng">
                <a:solidFill>
                  <a:srgbClr val="0000ff"/>
                </a:solidFill>
                <a:uFillTx/>
                <a:latin typeface="Arial"/>
                <a:cs typeface="Simplified Arabic"/>
              </a:rPr>
              <a:t>الوسط (الجسد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98100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شدّ الانتباه ( كسر الحاجز النفسي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1640" y="137628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رض النقاط الرئيس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73664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حديد الأهدا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209700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تياجات الجمه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307008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نقاط يجب أن تعم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346536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كيف تسيطر على الحض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3825720"/>
            <a:ext cx="516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سائل دعم، أسئلة، مراجع، وسائل بص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418464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تمال معارضة الحض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93080" y="462744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ff"/>
                </a:solidFill>
                <a:latin typeface="Arial"/>
                <a:ea typeface="Simplified Arabic"/>
              </a:rPr>
              <a:t>* </a:t>
            </a:r>
            <a:r>
              <a:rPr b="1" lang="ar-AE" sz="2400" spc="-1" strike="noStrike" u="sng">
                <a:solidFill>
                  <a:srgbClr val="0000ff"/>
                </a:solidFill>
                <a:uFillTx/>
                <a:latin typeface="Arial"/>
                <a:cs typeface="Simplified Arabic"/>
              </a:rPr>
              <a:t>الخاتم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11640" y="508464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راجع ما قلت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29280" y="5516640"/>
            <a:ext cx="42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ختصار النقا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587700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قفال الكلمات والتعليق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5238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6600"/>
                </a:solidFill>
                <a:latin typeface="Arial"/>
                <a:cs typeface="Simplified Arabic"/>
              </a:rPr>
              <a:t>قل لهم ماذا ستقول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565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6600"/>
                </a:solidFill>
                <a:latin typeface="Arial"/>
                <a:cs typeface="Simplified Arabic"/>
              </a:rPr>
              <a:t>قل لهم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3640" y="4581360"/>
            <a:ext cx="23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6600"/>
                </a:solidFill>
                <a:latin typeface="Arial"/>
                <a:cs typeface="Simplified Arabic"/>
              </a:rPr>
              <a:t>قل لهم ماذا قلت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024000" cy="5616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3492000" y="836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63492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634920" y="4869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592-7C87-4722-8354-DBC2107BFF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000"/>
                            </p:stCondLst>
                            <p:childTnLst>
                              <p:par>
                                <p:cTn id="89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806400"/>
            <a:ext cx="830556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(تابع) التعريف والمقدمة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5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ادة في سطور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.B.C. = Aim. Body. Conclusion</a:t>
            </a: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B.C. = Introduction. Body. Conclusion</a:t>
            </a: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.I.S.S. = Keep It Short and Simple</a:t>
            </a: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0B6-094C-49E8-8F99-BA06986E97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318960"/>
            <a:ext cx="8642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نت رأسي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97720" y="248436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97720" y="190800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97720" y="127800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7720" y="376560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97720" y="306072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97720" y="44290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97720" y="5364000"/>
            <a:ext cx="4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800000"/>
                </a:solidFill>
                <a:latin typeface="Arial"/>
                <a:cs typeface="Simplified Arabic"/>
              </a:rPr>
              <a:t>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33200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أخرج الحروف بمخارجها الصحيحة ( لا تأكل الكلمات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1955880"/>
            <a:ext cx="71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نوّع في نبرة وسرعة الصوت والحم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253044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تأكّد من لفظ الكلمات بالشكل الصحيح (راجع الكلمات الصعبة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132000"/>
            <a:ext cx="71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ركّز على الكلمات المهمّة والقو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385272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أعيد العبارات الهامة بشكل مغاير ( في سرعة ونبرة الصوت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4572000"/>
            <a:ext cx="71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سرعة الصوت اجعله متنوعاً، للفكاهات اجعله سريعاً، في الأمور الحزينة والهامة جداً اجعله بطيئ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543708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يلزم أن اوضّح صوتي وأن اجعله أعلى من المعت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407360" y="154764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407360" y="277164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407360" y="219564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407360" y="3348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407360" y="406872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407360" y="4788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407360" y="572436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9E2-4E3A-46C3-8DB9-7DCCFCA068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3000"/>
                            </p:stCondLst>
                            <p:childTnLst>
                              <p:par>
                                <p:cTn id="9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3500"/>
                            </p:stCondLst>
                            <p:childTnLst>
                              <p:par>
                                <p:cTn id="9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500"/>
                            </p:stCondLst>
                            <p:childTnLst>
                              <p:par>
                                <p:cTn id="9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457200"/>
            <a:ext cx="87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خّن صوتي ( انها لحظات تاريخية لن تتكرر .. ابدأ بحيوية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213372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خدم الصوت للتأثير على الكلمات التي تريد التركيز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033560"/>
            <a:ext cx="82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ن لا اكون مملاً ( نبرة الصوت ثابتة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71640" y="1609560"/>
            <a:ext cx="59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سرعة، النبرة، الحدّة،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2819520"/>
            <a:ext cx="74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ان لا اخشى الوقفات أثناء الحديث ( فن الوقفات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4290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ذر الصوت المرتفع للغاية، أو المنخفض للغاية، أو الصـاخب للغاية، أو الحاد للغاية، فإنها تصرف المستمع عن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956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سرع للفكاهة والمعلومات الحيوية، أبطئ للفكرة المعقّدة، الفكرة الجادة، نهاية النكته، للإثارة، للأشياء الحزين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E75-E45A-4B59-BD24-6E980C2DB8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72200" y="1350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فلأكن </a:t>
            </a:r>
            <a:r>
              <a:rPr b="1" lang="ar-SA" sz="40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أن</a:t>
            </a:r>
            <a:r>
              <a:rPr b="1" lang="ar-AE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ا</a:t>
            </a:r>
            <a:r>
              <a:rPr b="1" lang="ar-SA" sz="40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...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6922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حدّث على سجيّت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بدون تكلّ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197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حـذر أن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لّد غير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سـواء في صوتـه أو نبرتـه أو هندامه ( اخلق تميزّ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خاص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205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ن اكون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طبيعياً في حركات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، بدون حركة سريعة أو بطيئة جد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78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حذر التقعّر أو التكلّف في الكلام (الفصحى المبالغ فيها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284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عند الضحك اضحك مع الحضور، وعند الأمور الحزينة احزن معهم ( تفاعل مع الحضو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233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بحث بجد عن آخر المعلومات والإحصاءات في مجال المحاضرة ( جدد معلوماتك باستمرار،، جدد ..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جدد  .. جدد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229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نفعل مع الحديـث، اغضـب، اضحـك، اسخر ... وليكن ذلك واضحاً في نبرات صوت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15920"/>
            <a:ext cx="572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م</a:t>
            </a:r>
            <a:r>
              <a:rPr b="1" lang="ar-SA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حاضراً متميزاً 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CD2-F18B-4975-8186-2D064C8EB707}" type="slidenum">
              <a:t>28</a:t>
            </a:fld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2781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ابدأ الاتصال بالعين في نهاية الفكرة أو الجمل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55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انظر إلى الجميع، وبشكل دوري،، لا اركّز على شخص واحد أو جهة واحدة ( قد اربكه 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42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نظر إلى النافذة ,, الحضور سيفعل نفس الشيء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07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ركّز على جهة واحدة فقط ... سأخسر الآخرين حتم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89000"/>
            <a:ext cx="8937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النظر قد يقتل أو يحيي محاضرتي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ea typeface="Simplified Arabic"/>
              </a:rPr>
              <a:t> لذا علي ملاحظة الآت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60" y="472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نسى أن انظر إلى الصفوف الخلف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410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دع المذكرات تسرقني  من جمهور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95C-70A9-40D7-9D01-4833EA9796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71480" y="228600"/>
            <a:ext cx="776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>
                <a:solidFill>
                  <a:srgbClr val="990000"/>
                </a:solidFill>
                <a:latin typeface="Arial"/>
                <a:cs typeface="PT Bold Heading"/>
              </a:rPr>
              <a:t>مهارات العرض والإلقاء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0280" y="1523880"/>
            <a:ext cx="85788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* ما هو التدريب...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وما الذي نعنيه بهذا المفهوم...؟ وما الذي يتضمنه...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أحد أهم آليات التعليم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عملية إيصال مادة ما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لمتلقي ما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لتغيير مهارة أو نمط أو سلوك ما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(التعليم... عملية تغيير تستند إلى التعريف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مرسل... المادة... المرسل إليه/إليها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594-7615-427B-A379-1BBD44AA48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08280" y="360360"/>
            <a:ext cx="9670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إذا كنت اقرأ من المذكرات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يجب علي أن أضع هذه النقاط في اعتبار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859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بدأ الحديث بدون النظر إلى المذكرات ( ستكون بداية قوية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544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أكون متمرساً ومتدرباً على مذكراتي (أحضّر، أحضّر ، وأحضّ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33684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إذا كانت هناك إحصائيات وأرقـام، يفضّل أن اقرأها من المذك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 يعطي مصداقية أكب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483084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جعل نظراتي خاطفة على المذك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559260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ا العب مع مذكراتي ( سوف يوضّح للحضور بأني متوت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347-B731-4560-B020-C6FC7E9182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0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297840" y="1133640"/>
            <a:ext cx="32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موظف البن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54840" y="1925640"/>
            <a:ext cx="25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تسوّ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40360" y="2930400"/>
            <a:ext cx="32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باحث عن 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3780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يجب أن أحذر أن أكون مثل 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219640" y="142236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210280" y="221472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210280" y="3294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11924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العملات المعدنية التي بجي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6360" y="1925640"/>
            <a:ext cx="50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شبك كلتا يدي وأؤشر على الحضور وكأنني يتسول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99556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الحضور يعلم أنني متوتر، ولكنه سيسأل متى آخر مرة استحممت فيها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64360" y="3941640"/>
            <a:ext cx="19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عقّ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210280" y="4302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8000" y="3998880"/>
            <a:ext cx="48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شبك كلتا يدي وكأنني أغسلهما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77080" y="4586400"/>
            <a:ext cx="22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جواهر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219640" y="4950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8000" y="4662360"/>
            <a:ext cx="48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مجوهراتي، ساعت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98E-C01E-408F-AD0D-88F084FC6E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"/>
                            </p:stCondLst>
                            <p:childTnLst>
                              <p:par>
                                <p:cTn id="1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"/>
                            </p:stCondLst>
                            <p:childTnLst>
                              <p:par>
                                <p:cTn id="1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838120" y="1136520"/>
            <a:ext cx="38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عاشق الوله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5640" y="1928880"/>
            <a:ext cx="33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طبيب العي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40360" y="279396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8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خيّا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380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يجب أن أحذر أن أكون مثل 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219640" y="14256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210280" y="22176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210280" y="315288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12248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حضن نفسي أمام الحضور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-36360" y="1928880"/>
            <a:ext cx="50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استمرار ينظارتي .. هل هي فوق أم تحت 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-228600" y="2865600"/>
            <a:ext cx="516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منشغل بملابسي وهندامي بصورة مزعج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3586320"/>
            <a:ext cx="19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9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شاغ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210280" y="394488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8000" y="3657600"/>
            <a:ext cx="485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القلم، المؤشر، أي شي أجده أمامه ... وهذا يزعج الحضو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805-DE83-4A26-90C5-80C3ECAA17D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500"/>
                            </p:stCondLst>
                            <p:childTnLst>
                              <p:par>
                                <p:cTn id="14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35280" y="1519200"/>
            <a:ext cx="7051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فوائد الوقف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401920"/>
            <a:ext cx="889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اعدني على التركيز في المحاضر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87280" y="304956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اعدني في السيطرة على الحضو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87280" y="369720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اعدني على جمع شتات أفكاري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327560"/>
            <a:ext cx="88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وقفات لن تنسيني ما قلت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905-2097-4F27-9969-B4348B19D9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0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523880" y="260280"/>
            <a:ext cx="586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ولكن كيف؟.. ومتى أقف؟؟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/>
          <p:nvPr/>
        </p:nvSpPr>
        <p:spPr>
          <a:xfrm>
            <a:off x="5292720" y="1630440"/>
            <a:ext cx="287964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بعد البد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71640" y="162864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الكل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92720" y="249228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أن تسأ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71640" y="249228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البند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32004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عند حدوث أي إزعا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71640" y="3357720"/>
            <a:ext cx="287964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عند التصفي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41148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فترة الاستر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2210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بعد الكلمة الأخي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52578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وقبل قولي ( شكراً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F20-2A87-444C-892E-710D81153B8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9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1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3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0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2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4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1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3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5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2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4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6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3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5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7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4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6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8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5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7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9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77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6" dur="770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8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0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77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7" dur="770" fill="hold"/>
                                        <p:tgtEl>
                                          <p:spTgt spid="2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9" dur="77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1" dur="77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2209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اجعلها طويلة ( تعكس التردد وعدم التحضير 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1319040"/>
            <a:ext cx="74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أجعل وقفاتي بالطول نفس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3280" y="3108240"/>
            <a:ext cx="77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اتوقف عن الحديث وسط الجمل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3870360"/>
            <a:ext cx="77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اتوقف طويلاً ضمن الفكرة الواحد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211640" y="304920"/>
            <a:ext cx="475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ولكن علي الحذر من.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4B0-588C-4212-B0A9-C770FAFE0E0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0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039280" y="1554120"/>
            <a:ext cx="44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سلوكيات اجتماعي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23200" y="2163600"/>
            <a:ext cx="70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إدارة الفصل (عيب في المدرس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3360" y="2849400"/>
            <a:ext cx="32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ثقة بالنف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99520" y="3459240"/>
            <a:ext cx="377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فاوت الثقاف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1120" y="380880"/>
            <a:ext cx="91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لماذا لا يتجاوب المتدربون في القاعة؟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99800" y="3992400"/>
            <a:ext cx="60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فاوت المستويات التعلي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9C2F-38E4-476D-AE70-2E8F84FA289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38088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كيف يمكنني التأكد من وصول المعلومة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أو تأثير المعلومة؟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55920" y="1922400"/>
            <a:ext cx="37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طويل المدى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18080" y="3836880"/>
            <a:ext cx="34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قصير المدى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84720" y="2610000"/>
            <a:ext cx="379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تغيير في السلوك العا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117960"/>
            <a:ext cx="30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استبيا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4481640"/>
            <a:ext cx="27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أسئلة الشفو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48360" y="5057640"/>
            <a:ext cx="293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نقاش المفتو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8028000" y="1995480"/>
            <a:ext cx="455760" cy="455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8101080" y="3930480"/>
            <a:ext cx="411120" cy="41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B53-D714-4B6F-9BD9-DC47B6E357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889640" y="380880"/>
            <a:ext cx="8433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فوائد السؤال ... لماذا نسأل؟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50920" y="1193760"/>
            <a:ext cx="67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شجيع الحضور على المشا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1843200"/>
            <a:ext cx="822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قييم تحضير المتدربين لواجباتهم,المراجعة والتلخي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35280" y="3214800"/>
            <a:ext cx="512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أكد من وصول المعلو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946680"/>
            <a:ext cx="875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نمية حب الاستطلاع والتعلم الذاتي تنمية مهارات التفك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4708440"/>
            <a:ext cx="746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سيطرة على الحضور, لفت انظار المشاكس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2498760"/>
            <a:ext cx="79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كسر الحاجز النفسي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Ice Br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3F4-1110-4A3D-8C31-AD75321D526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533400" y="380880"/>
            <a:ext cx="6250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سئلة يجب أن أتجنبها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84360" y="1401840"/>
            <a:ext cx="64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أسئلة المباشرة في بدايات المحاض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1636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أسئلة التي تسأل عن العرق والأصل ( محرجة نوعاً ما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00360" y="28494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ن العمر ( خاصة للنساء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64000" y="3459240"/>
            <a:ext cx="54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ن الحالة الاجتما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08360" y="40384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فاصيل الشخص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71640" y="4678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أسئلة التي تدور حول المدر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911-00B0-465D-8DFD-DCF9B645F33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1" dur="indefinite" restart="never" nodeType="tmRoot">
          <p:childTnLst>
            <p:seq>
              <p:cTn id="1802" dur="indefinite" nodeType="mainSeq">
                <p:childTnLst>
                  <p:par>
                    <p:cTn id="1803" fill="hold">
                      <p:stCondLst>
                        <p:cond delay="0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633240"/>
            <a:ext cx="861048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990000"/>
                </a:solidFill>
                <a:latin typeface="Arial"/>
                <a:cs typeface="PT Bold Heading"/>
              </a:rPr>
              <a:t>الخطابة</a:t>
            </a:r>
            <a:r>
              <a:rPr b="1" lang="ar-AE" sz="5500" spc="-1" strike="noStrike">
                <a:solidFill>
                  <a:srgbClr val="990000"/>
                </a:solidFill>
                <a:latin typeface="Arial"/>
                <a:ea typeface="PT Bold Heading"/>
              </a:rPr>
              <a:t>:</a:t>
            </a:r>
            <a:r>
              <a:rPr b="1" lang="ar-AE" sz="55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*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مشافهة الجمهور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للتأثير عليهم أو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مالتهم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*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إيصال خبر أو فكرة ما لمجموعـة من السامعين بشكل مقنع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ومؤثر ومغير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*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ابن سينا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: (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وحسبها شرفا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أنها وظيفة قادة الأمم من الأنبياء والمرسلين ومن شاكلهم من العلماء والعاملين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وعظماء الملوك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وكبار الساسة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)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7DB-A0E6-42F3-AA58-A89195E779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79080" y="380880"/>
            <a:ext cx="5775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خصائص الأسئلة الجي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00720" y="1319040"/>
            <a:ext cx="43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باشرة وبساطة الل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129528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ووضوح ودقة المعن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32360" y="198108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سلسل المنطق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16360" y="2743200"/>
            <a:ext cx="41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مراعاة قدرات المتدرب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84720" y="3352680"/>
            <a:ext cx="458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شارة تفكير الطل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95640" y="4038480"/>
            <a:ext cx="486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نوع في الأسئلة والأسلو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FF4-3FAB-462C-A91C-A6AAA15D1AD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fill="hold">
                      <p:stCondLst>
                        <p:cond delay="0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301680"/>
            <a:ext cx="8610480" cy="83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مهارات التعامل م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الأعمار والأجناس والطوائف المختلفة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رجال... (الأمثلة العملية الوظيفي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نساء... (لفظ المؤنث... الحياة الاجتماعية... التقدير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شباب... (الأمثلة الحياتية... الاهتمامات... الأمثلة الإيجابي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طلاب... (المناهج الدراسية... الحياة داخل المدرسة... البيت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ديانات والأفكار والفلسفات... (الطرح بالحيادية التام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أجناس والطوائف والمذاهب... (تجنب النقاط المثيرة للإزعاج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فئات الخاصة...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65B7-7B18-4ED0-B033-659EF362398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0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763640" y="579600"/>
            <a:ext cx="5688000" cy="1196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800000"/>
                </a:solidFill>
                <a:latin typeface="Arial"/>
              </a:rPr>
              <a:t>العوامل التي تؤثر على التعلّم</a:t>
            </a:r>
            <a:r>
              <a:rPr b="1" lang="ar-AE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92720" y="1847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محــاض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0920" y="1847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مادة (الموضو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422424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بيئــ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2639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جمهور (العد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92720" y="343224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عمــــ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0920" y="343224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أدوات التعليم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2720" y="422604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إبـــد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292720" y="2639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مستوى التعل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5181480"/>
            <a:ext cx="86421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هناك عوامل يمكن التحكم به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D06-D569-428C-8AC2-623E0CD44BB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2" dur="indefinite" restart="never" nodeType="tmRoot">
          <p:childTnLst>
            <p:seq>
              <p:cTn id="1913" dur="indefinite" nodeType="mainSeq">
                <p:childTnLst>
                  <p:par>
                    <p:cTn id="1914" fill="hold">
                      <p:stCondLst>
                        <p:cond delay="0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7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2280" y="295200"/>
            <a:ext cx="8839440" cy="66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900" spc="-1" strike="noStrike">
                <a:solidFill>
                  <a:srgbClr val="990000"/>
                </a:solidFill>
                <a:latin typeface="Arial"/>
                <a:cs typeface="PT Bold Heading"/>
              </a:rPr>
              <a:t>معوقات الاتصال الفعال..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معوقات مرتبطة بالمرسل/ المرسلة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الرغبة القوية في التأثير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خوف من الارتباك أو الإحراج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الفهم التام للموضوع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ستخدام جمل وعبارات وكلمات غامضة... (المستوى الثقافي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لفظ بجملً غير صحيحة... متقطعة... وغير تامة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صغاء 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جيد والعملي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للتغذية الراجعة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م طريقة واحدة للاتصال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8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محاولة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رباك أو التشويش عن عمد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9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ترتيب المادة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80EE-722A-4375-9B58-2ABEBC4BE5B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fill="hold">
                      <p:stCondLst>
                        <p:cond delay="0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0880" y="720720"/>
            <a:ext cx="8305920" cy="66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900" spc="-1" strike="noStrike">
                <a:solidFill>
                  <a:srgbClr val="990000"/>
                </a:solidFill>
                <a:latin typeface="Arial"/>
                <a:cs typeface="PT Bold Heading"/>
              </a:rPr>
              <a:t>معوقات الاتصال الفعال..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ب- معوقات مرتبطة بالمتلقي/ المتلقية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صور المغلوط لما تم شرحه... (سوء الفهم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نتقاد المبالغ فيه... (الانتقاد لغرض الانتقاد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خجل أو الكبر... (عدم الاستفسار عما يجهله/ تجهله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حكم السريع والرفض المسبق لشخصية المدرب/ المدربة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شعور بقلة الاهتمام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شرود الذهن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الرغبة الحقيقية في التغيير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D4B-2306-4039-90AD-AA52D356A3C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fill="hold">
                      <p:stCondLst>
                        <p:cond delay="0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914400"/>
            <a:ext cx="830592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900" spc="-1" strike="noStrike">
                <a:solidFill>
                  <a:srgbClr val="990000"/>
                </a:solidFill>
                <a:latin typeface="Arial"/>
                <a:cs typeface="PT Bold Heading"/>
              </a:rPr>
              <a:t>معوقات الاتصال الفعال..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ج- معوقات عامة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وقيت 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سيئ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رهاق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تقنيات اتصال ضعيفة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ضغط الزائد من أجل النتائج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ضغط كبير في الوقت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إحباط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ليس هناك نظام عام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FF8-46B9-4D37-A811-A2CC33F34E1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0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3650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لماذا يوجد مشاكسو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19640" y="1649520"/>
            <a:ext cx="368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قد كنت مجحفاً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1676520"/>
            <a:ext cx="48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قد كنت كثير التوج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2286000"/>
            <a:ext cx="692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واثقاً من نفسي بصورة زائدة عن الح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59280" y="2895480"/>
            <a:ext cx="58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تدرب على فن الإلق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80000" y="4221000"/>
            <a:ext cx="512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ظهر كيف أطوّع المعلوم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-685800" y="16765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لم أكن صبور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19280" y="3505320"/>
            <a:ext cx="728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حافظ على وعودي .. ( الوقت، .. الخ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2000" y="4876920"/>
            <a:ext cx="577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تعاملت مع الحضور كما لو كانوا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544032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دع لهم فرصة المشا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3ED5-3A0A-4BB8-BA82-2BBCB69A632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9" dur="indefinite" restart="never" nodeType="tmRoot">
          <p:childTnLst>
            <p:seq>
              <p:cTn id="2010" dur="indefinite" nodeType="mainSeq">
                <p:childTnLst>
                  <p:par>
                    <p:cTn id="2011" fill="hold">
                      <p:stCondLst>
                        <p:cond delay="0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3650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لماذا يوجد مشاكسو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3280" y="1371600"/>
            <a:ext cx="42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ستطع أن أسكن خوف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32000" y="1998720"/>
            <a:ext cx="574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صغيراً جداً / عديم الخب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-1535040" y="2011320"/>
            <a:ext cx="603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كنت كبيراً جداً وفاقد السيط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84720" y="2590920"/>
            <a:ext cx="458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قمت بتغيير أماكن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27280" y="3200400"/>
            <a:ext cx="624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خفّضت عليهم فترات الاسترا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5520" y="3809880"/>
            <a:ext cx="31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كن مرتب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35520" y="4343400"/>
            <a:ext cx="31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نسيت أسمائ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29120" y="4952880"/>
            <a:ext cx="484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حساساً زيادة عن اللزو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64120" y="5562720"/>
            <a:ext cx="47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نظرياً زيادة عن اللزو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2A8-75CF-47CF-A194-5E231160F17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1" dur="indefinite" restart="never" nodeType="tmRoot">
          <p:childTnLst>
            <p:seq>
              <p:cTn id="2082" dur="indefinite" nodeType="mainSeq">
                <p:childTnLst>
                  <p:par>
                    <p:cTn id="2083" fill="hold">
                      <p:stCondLst>
                        <p:cond delay="0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1822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ستمع لما اريد قوله ..أو يشاهد ما اريد عرضه(ديل كارينجي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657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أخذ المبادرة والفعل بالتوافق مع مجمل أهداف المحاض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2438280"/>
            <a:ext cx="75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فهم ويستوعب القصد من الحدي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54040" y="3048120"/>
            <a:ext cx="76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تفق مع ما سمعه وشاهد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7200" y="533520"/>
            <a:ext cx="895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لن يحقق العرض المستوى المطلوب من النجاح إلا إذا نجحت في جعل الحضو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F697-FF10-4BCB-80FF-4682D7D49EE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6" dur="indefinite" restart="never" nodeType="tmRoot">
          <p:childTnLst>
            <p:seq>
              <p:cTn id="2147" dur="indefinite" nodeType="mainSeq">
                <p:childTnLst>
                  <p:par>
                    <p:cTn id="2148" fill="hold">
                      <p:stCondLst>
                        <p:cond delay="0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6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11280" y="26028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عند تصميم البرنامج التدريبي،علي تجنّب ما يل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125360"/>
            <a:ext cx="898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المادة قد حضّرت لمجال تدريبي مختلف أو لنوع آخر من المتدرب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8920" y="22017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واد غير مطابقة للزمن الذي يحصل فيه التدري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5920" y="27781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واد القائمة جامدة وغير قابلة للتواف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8000" y="33544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المواد لم تحقق نجاحاً في الماض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8000" y="39337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واد القائمة جمعت من مصادر كثيرة بحيث تبدو مفككة وغير متناس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2920" y="49370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المواد مطابقة لحالة بلد معين فق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2920" y="55134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المواد من النوع الذي يتضمن حقوق النشر والاستعم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6AE-4343-4001-977C-C607C4C9411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7" dur="indefinite" restart="never" nodeType="tmRoot">
          <p:childTnLst>
            <p:seq>
              <p:cTn id="2188" dur="indefinite" nodeType="mainSeq">
                <p:childTnLst>
                  <p:par>
                    <p:cTn id="2189" fill="hold">
                      <p:stCondLst>
                        <p:cond delay="0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80880"/>
            <a:ext cx="8664480" cy="75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أهمية الخطابة والعرض والإلقاء</a:t>
            </a:r>
            <a:r>
              <a:rPr b="1" lang="ar-AE" sz="4000" spc="-1" strike="noStrike">
                <a:solidFill>
                  <a:srgbClr val="990000"/>
                </a:solidFill>
                <a:latin typeface="Arial"/>
                <a:ea typeface="PT Bold Heading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لضرورة التواصل الإنساني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تغير خطبة ما فردا أو أكثر... أو مجتمعا بأكمله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يتم اتخاذ قرارات مصيرية وهامة بناء على أسلوبي في العرض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يؤثر على سمعة مؤسستي وعملي (والأهم سمعتي أنا... بلا شك...)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أتحدث في اجتماعات داخلية أو خارجية لشرح وجهة نظر المؤسسة... أو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أتحدث أمام لجنة أو مجلس إدارة أو في مؤتمر عام أو في ورشة عمل أو في مناسبات اجتماعية مختلفة... أو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أتكلم أمام أناس أعرفهم... أو لا أعرفهم... أقل مني ثقافة... أو أعلى... دوني أكاديميا... من جنسي...أو من الجنس الآخر... أكبر سنا... أو أصغر... عدد كبير... أو أفراد محدودين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62C-1B2B-466C-B3F4-2BDDA828FB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078200" y="1355760"/>
            <a:ext cx="90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رغبة والإصرار والصبر/ العمل مع الاخ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-709200" y="2011320"/>
            <a:ext cx="113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عرف واحدد ماذا اريد( احقق ذاتي/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سجّل اسمي في التاريخ</a:t>
            </a:r>
            <a:r>
              <a:rPr b="0" lang="ar-A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4240" y="2697120"/>
            <a:ext cx="1011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تفوق والحماس/ الشعور بالمسؤولية/المصدا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3320" y="3306600"/>
            <a:ext cx="103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ثقة الداخلية/ الاعتزاز بالنفس/ الايمان بما اقول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56240" y="228600"/>
            <a:ext cx="73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المهارات التي يجب أن تتواف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في شخصيتي لكي أصبح مدربا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1658880" y="3916440"/>
            <a:ext cx="124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ستطيع ان احلل الاحتياجات/ الوضع/العلم والتحضير المسب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53640" y="4572000"/>
            <a:ext cx="944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تفتح والتعاون/الاستفادة من خبرات الا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 وفوق كل ذي علم عليم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55520" y="5592600"/>
            <a:ext cx="70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خبرة/ تطور المستوى باستمرا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C0EE-6577-4C6A-AE09-06FA6A437BB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6" dur="indefinite" restart="never" nodeType="tmRoot">
          <p:childTnLst>
            <p:seq>
              <p:cTn id="2237" dur="indefinite" nodeType="mainSeq">
                <p:childTnLst>
                  <p:par>
                    <p:cTn id="2238" fill="hold">
                      <p:stCondLst>
                        <p:cond delay="0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16560" y="593640"/>
            <a:ext cx="723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ماذا سيحدث إذا لم أتدرب...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1600200"/>
            <a:ext cx="852948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طرف بعيني بشكل متكرر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بحث عن الكلمات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لن أكون منظّما... وسأرتبك وأقول ما يخطر على بالي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قول (آآآ) مرات كثيرة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بحث في الصفحة عن الجملة التي كنت سأقرؤها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A58E-5BE8-4E05-9F1C-EB9D3B93769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0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1522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a50021"/>
                </a:solidFill>
                <a:latin typeface="Arial"/>
              </a:rPr>
              <a:t>يجب أن</a:t>
            </a:r>
            <a:r>
              <a:rPr b="1" lang="ar-AE" sz="4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a50021"/>
                </a:solidFill>
                <a:latin typeface="Arial"/>
              </a:rPr>
              <a:t>احذر من تكرار نفسي كل مرة وفي كل محاض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99"/>
                </a:solidFill>
                <a:latin typeface="Arial"/>
              </a:rPr>
              <a:t>” </a:t>
            </a:r>
            <a:r>
              <a:rPr b="1" lang="ar-AE" sz="4400" spc="-1" strike="noStrike">
                <a:solidFill>
                  <a:srgbClr val="333399"/>
                </a:solidFill>
                <a:latin typeface="Arial"/>
              </a:rPr>
              <a:t>لا تقع في مصيدة النشاط التقليدية</a:t>
            </a:r>
            <a:r>
              <a:rPr b="1" lang="ar-AE" sz="4400" spc="-1" strike="noStrike">
                <a:solidFill>
                  <a:srgbClr val="333399"/>
                </a:solidFill>
                <a:latin typeface="Arial"/>
              </a:rPr>
              <a:t>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68128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45%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الوقت في الاتصال المباشر بالمتدربين وإلقاء المحاضر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11280" y="336708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25%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في البحث وإعداد الموضوع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71640" y="4006800"/>
            <a:ext cx="79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28%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في تنمية الفاعلية الذاتية، وحضور المؤتمرات والدورات والبحث في الأساليب الجديدة للمتدرب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76360" y="5043600"/>
            <a:ext cx="732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2%</a:t>
            </a:r>
            <a:r>
              <a:rPr b="1" lang="ar-AE" sz="2800" spc="-1" strike="noStrike">
                <a:solidFill>
                  <a:srgbClr val="ff0000"/>
                </a:solidFill>
                <a:latin typeface="Arial"/>
                <a:ea typeface="Simplified Arabic"/>
              </a:rPr>
              <a:t>  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 التفكير خارج نطاق المؤسسة، والأفكار الإبداع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2AD-BAF5-43DF-A7AE-F0E1A8A2675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4" dur="indefinite" restart="never" nodeType="tmRoot">
          <p:childTnLst>
            <p:seq>
              <p:cTn id="2305" dur="indefinite" nodeType="mainSeq">
                <p:childTnLst>
                  <p:par>
                    <p:cTn id="2306" fill="hold">
                      <p:stCondLst>
                        <p:cond delay="0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1955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كرّر الاسم في ذهن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1260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سمع الاسم جيد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2711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كرّر الاسم قدر المستطاع أثناء التدري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473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نظر إلى السمات البارزة في المتدرب واربطها بالاس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533520"/>
            <a:ext cx="893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مهارة تذكّر أسماء المتدربين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360" y="4295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من الأفضل أن أستخدم بطاقات تعريف الاسم ما أمكن ذلك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 اكتب اسمك على هواك )</a:t>
            </a: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973-71C7-4CA9-9081-19FBF08D95E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0" dur="indefinite" restart="never" nodeType="tmRoot">
          <p:childTnLst>
            <p:seq>
              <p:cTn id="2341" dur="indefinite" nodeType="mainSeq">
                <p:childTnLst>
                  <p:par>
                    <p:cTn id="2342" fill="hold">
                      <p:stCondLst>
                        <p:cond delay="0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-1374840" y="390600"/>
            <a:ext cx="12092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أريد أن أصبح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ea typeface="PT Bold Heading"/>
              </a:rPr>
              <a:t>      محاضرا محترفا/ محاضرة محترفة... كيف...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2039760"/>
            <a:ext cx="8148600" cy="54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ستعداد التام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ختيار مستشارين ومستشارات متميزين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شتراك في دورات مشهود لها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كتابة ملخّص عن المادة التدريبية (أو موضوع المحاضر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لتحاق بحلقات تدريب المدربين والمدربات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م دورتي الأولى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قييم والمراجعة المستمرة (قياس فجوة الأداء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64000" y="3497400"/>
            <a:ext cx="519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C7E-B0DD-4970-AC2A-2BF87F96209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4" dur="indefinite" restart="never" nodeType="tmRoot">
          <p:childTnLst>
            <p:seq>
              <p:cTn id="2385" dur="indefinite" nodeType="mainSeq">
                <p:childTnLst>
                  <p:par>
                    <p:cTn id="2386" fill="hold">
                      <p:stCondLst>
                        <p:cond delay="0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009200" y="207792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يزان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11760" y="2711520"/>
            <a:ext cx="71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اهداف, الاحتياجات التدريب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2720" y="3397320"/>
            <a:ext cx="102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عرّف على خصائص المتدربين, ماذا يريدون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91240" y="1301760"/>
            <a:ext cx="405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قبل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-274320" y="4083120"/>
            <a:ext cx="111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خطّط جيدا لعملية التدريب وارسم خريطة ذهن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-1487880" y="4800600"/>
            <a:ext cx="124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درّب جيدا على استخدام الأجهزة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تدرّب, تدرّب, تدرّب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200" y="5530680"/>
            <a:ext cx="107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زّع المادة العلمية على المتدربين قبل الدو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3F1-AE9B-49B1-BD17-ED310A2CCB0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9" dur="indefinite" restart="never" nodeType="tmRoot">
          <p:childTnLst>
            <p:seq>
              <p:cTn id="2410" dur="indefinite" nodeType="mainSeq">
                <p:childTnLst>
                  <p:par>
                    <p:cTn id="2411" fill="hold">
                      <p:stCondLst>
                        <p:cond delay="0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691240" y="1184400"/>
            <a:ext cx="405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قبل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0920" y="36504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7320" y="1954080"/>
            <a:ext cx="102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حضور المبكر(النظر, المعدات, التوصيلات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89400" y="2579760"/>
            <a:ext cx="45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بعد عن الإنهاك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36600" y="3203640"/>
            <a:ext cx="60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لابس بطريقة مريح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798720"/>
            <a:ext cx="909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ضر معك </a:t>
            </a:r>
            <a:r>
              <a:rPr b="1" lang="ar-AE" sz="4400" spc="-1" strike="noStrike" u="sng">
                <a:solidFill>
                  <a:srgbClr val="a50021"/>
                </a:solidFill>
                <a:uFillTx/>
                <a:latin typeface="Arial"/>
                <a:cs typeface="Simplified Arabic"/>
              </a:rPr>
              <a:t>دائما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 نسخاً احتياطية من المواد التعليم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-99720" y="4616280"/>
            <a:ext cx="108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ختلط مع المتدربين لخلق جو الألفة والتفاع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5286240"/>
            <a:ext cx="910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صافح المتدربين لخلق جو الألفة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تذكر العادات الاجتماعية والشرع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09CC-D669-49C9-802E-0C5F56FD210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6" dur="indefinite" restart="never" nodeType="tmRoot">
          <p:childTnLst>
            <p:seq>
              <p:cTn id="2467" dur="indefinite" nodeType="mainSeq">
                <p:childTnLst>
                  <p:par>
                    <p:cTn id="2468" fill="hold">
                      <p:stCondLst>
                        <p:cond delay="0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516120" y="132228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في بداية جلسة التدريب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10680" y="2116080"/>
            <a:ext cx="92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افتتاح على مستوى عالي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قدر الإمكان )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289548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بدأ بنغمة عالية وصوت قوي وافتتاحية مؤث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نت رأسي .. يا صوت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40440" y="4038480"/>
            <a:ext cx="46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رّف نفسك جيد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-1321200" y="4768920"/>
            <a:ext cx="124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طلب من الحضور تقديم أنفسهم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و عرّف زميلك/زميلتك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F2F-4C97-47CD-8F40-8858BB55868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0" dur="indefinite" restart="never" nodeType="tmRoot">
          <p:childTnLst>
            <p:seq>
              <p:cTn id="2511" dur="indefinite" nodeType="mainSeq">
                <p:childTnLst>
                  <p:par>
                    <p:cTn id="2512" fill="hold">
                      <p:stCondLst>
                        <p:cond delay="0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516120" y="132228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في بداية جلسة التدريب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157480" y="2133720"/>
            <a:ext cx="82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عرض اهدافك وجدولك الزمن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289548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عرض أوقات الراحة وسجلها في مكان ظاه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 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قواعد الدور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82720" y="4191120"/>
            <a:ext cx="86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لا تنتظر المتأخرين وأبدا في موعد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05680" y="4754520"/>
            <a:ext cx="82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لا تقم بتخليص ما فات على المتأخرين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1719000" y="5454720"/>
            <a:ext cx="127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حدّد توقعاتك من المتدربين( هل من إضافة...حاضرين 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B44-2E39-4629-AB45-A31CED7D327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8" dur="indefinite" restart="never" nodeType="tmRoot">
          <p:childTnLst>
            <p:seq>
              <p:cTn id="2549" dur="indefinite" nodeType="mainSeq">
                <p:childTnLst>
                  <p:par>
                    <p:cTn id="2550" fill="hold">
                      <p:stCondLst>
                        <p:cond delay="0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566320" y="1257480"/>
            <a:ext cx="40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أثناء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84680" y="1949400"/>
            <a:ext cx="93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ذكر مهارات لغة الجسد, النظر, الصو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2590920"/>
            <a:ext cx="9091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خلق جوا من المرح في جلسة التدري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    ( استمتعوا, استمتعوا, استمتعوا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-1100160" y="3581280"/>
            <a:ext cx="119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ذكر ان تجيب على جميع اسئلة الحضور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الاهتمام بهم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67320" y="4191120"/>
            <a:ext cx="9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عامل بكياسة مع الأشخاص المشاكسين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00240" y="4876920"/>
            <a:ext cx="93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زع وقتك بطريقة سليمة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فن إدارة الوقت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-377280" y="5562720"/>
            <a:ext cx="112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شجع المتدربين على التخيل واستعمال الحواس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801-E920-46F2-99CC-9DF08B72CC9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5" dur="indefinite" restart="never" nodeType="tmRoot">
          <p:childTnLst>
            <p:seq>
              <p:cTn id="2586" dur="indefinite" nodeType="mainSeq">
                <p:childTnLst>
                  <p:par>
                    <p:cTn id="2587" fill="hold">
                      <p:stCondLst>
                        <p:cond delay="0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04920"/>
            <a:ext cx="815328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990000"/>
                </a:solidFill>
                <a:latin typeface="Arial"/>
                <a:ea typeface="PT Bold Heading"/>
              </a:rPr>
              <a:t> استعدادي يعني أنني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فكر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تغير وأسعى للتغيير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نفسي أولا... (الروح ثم الجسد)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قدر ذاتي... أقتنص وقتي... وأحترم غيري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قرأ الآخرين وأتميز في التعامل معهم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461-33A2-4B38-A415-6D7C6041F8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5566320" y="1273320"/>
            <a:ext cx="40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أثناء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1927080"/>
            <a:ext cx="90583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إذا سألك احد ولم تعرف الإجابة لا تكذب ولا تتهر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كن صادقا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22520" y="3048120"/>
            <a:ext cx="88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جنب استعمال المصطلحات المعقد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28160" y="3778200"/>
            <a:ext cx="94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عمل الوسائل البصرية لجذب الانتبا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662360"/>
            <a:ext cx="9075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وقف من حين لآخر لتتعرف على رأي المشارك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فن الوقف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E9B-1078-4B2E-9438-AACEAA10778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7" dur="indefinite" restart="never" nodeType="tmRoot">
          <p:childTnLst>
            <p:seq>
              <p:cTn id="2638" dur="indefinite" nodeType="mainSeq">
                <p:childTnLst>
                  <p:par>
                    <p:cTn id="2639" fill="hold">
                      <p:stCondLst>
                        <p:cond delay="0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566320" y="1273320"/>
            <a:ext cx="40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أثناء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1900800" y="1981080"/>
            <a:ext cx="127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غير في ايقاع الدرس ونوع طرق العرض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نواع الحضور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2819520"/>
            <a:ext cx="90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جول بين المتدربين ولا تقف في نفس المكان طوال الوقت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لغة الجسد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4191120"/>
            <a:ext cx="910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طلب متطوعين لشرح بعض الأفكار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شاركني وسوف اتذك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5029200"/>
            <a:ext cx="9101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كرّر الأسئلة أو أعد صياغتها في حال عدم فهم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نواع الحضو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FB4-2726-46AD-A035-45017504D40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0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389400" y="1273320"/>
            <a:ext cx="67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في ختام جلسة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2101680"/>
            <a:ext cx="90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جيل الملاحظات وتصحيحها أولاً بأول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يعجبني / لا يعجب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65760" y="2895480"/>
            <a:ext cx="81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ختام بقوة كما كانت البداية بقو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625920"/>
            <a:ext cx="90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ذكير الحضور بواجبات ما بعد الدورة، التحدي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أعرج أخ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3880" y="4387680"/>
            <a:ext cx="101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عرف على رأي الحضور ...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التغذية الراجعة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5119560"/>
            <a:ext cx="9077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شكر من ينساهم الناس عادة 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صحاب المراجع، العاملون، المنفذون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F78-75D6-4E74-B9E9-EC6EA183356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7" dur="indefinite" restart="never" nodeType="tmRoot">
          <p:childTnLst>
            <p:seq>
              <p:cTn id="2698" dur="indefinite" nodeType="mainSeq">
                <p:childTnLst>
                  <p:par>
                    <p:cTn id="2699" fill="hold">
                      <p:stCondLst>
                        <p:cond delay="0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-777960" y="304920"/>
            <a:ext cx="1080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PT Bold Heading"/>
              </a:rPr>
              <a:t>سبع رسائل... إذا وصلت... فأنا متميز/ متميزة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990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لن أضيع وقتكم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أعرف من أنتم ولماذا أتيتم إلى هنا (إشباع حاجات الجمهور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رسالتي واضحة ومادتي منظمة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سوف ألقي حديثي بصورة حوارية ممتعة (احتواء الحضور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أعرف موضوعي (الجمهور يريد أن يستمع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إليكم أهم نقاط الحديث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لقد انتهيت (الانهاء بخاتمة قوية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D64-8405-406F-A5E5-0EBF3DC2F23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2" dur="indefinite" restart="never" nodeType="tmRoot">
          <p:childTnLst>
            <p:seq>
              <p:cTn id="2743" dur="indefinite" nodeType="mainSeq">
                <p:childTnLst>
                  <p:par>
                    <p:cTn id="2744" fill="hold">
                      <p:stCondLst>
                        <p:cond delay="0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252360" y="609480"/>
            <a:ext cx="93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ديل كار ينجي يقول هنالك ثلاثة أساسيات للمتحدث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03560"/>
            <a:ext cx="89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يكتسب حق التحدث في الموضو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920" y="322884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لديه قناعات ومشاعر عميقة تجعل عيناه تلمعان وتجعل صوته يفيض بالمشاعر والعواط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5920" y="460044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لديه قصص وموضوعات وتشبيهات كثيرة توضح موضوعه ورسالت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4BB-0F2D-4E6B-ADBF-10551F8D99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959720" y="2644920"/>
            <a:ext cx="35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ربما يعجبون بي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040600" y="278928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17680" y="321804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قد لا يعجبون ب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040600" y="3365640"/>
            <a:ext cx="266760" cy="266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040600" y="389088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60360" y="3722760"/>
            <a:ext cx="58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ربما يكونون محايدين تجاه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040600" y="446724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72040" y="4267080"/>
            <a:ext cx="56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قد يشعرون بالأسف تجاه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8601120" y="1692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606600" y="1527120"/>
            <a:ext cx="1098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في نهاية العرض أو المحاضرة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فإن نظرة الجمهور تجاهي للمرة الأولى ستكون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886-EBA8-41BF-AFE0-1892685634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63640" y="533520"/>
            <a:ext cx="5688000" cy="79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</a:rPr>
              <a:t>لهذه الاسباب ارفض الحديث امام الجمهور</a:t>
            </a:r>
            <a:r>
              <a:rPr b="1" lang="ar-AE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153972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سوف أصبح أضحوك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53972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أرتجف ولا أستطيع الكل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236232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لم أحضر لهذا الموضوع من ق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33208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سوف أنسى ما أريد ان أق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3243240"/>
            <a:ext cx="358128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لدي لهجة غريبة ولا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يمكنني التحدث أمام النا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200400"/>
            <a:ext cx="365760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أخاف من تقييم الناس لي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خوف من الفش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4081320"/>
            <a:ext cx="360072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جمهور مثقف ولا يمكن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وقوف متحدثاً أمام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4B9-834D-42C9-8916-5E081CF85E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ulfi</cp:lastModifiedBy>
  <dcterms:modified xsi:type="dcterms:W3CDTF">2007-01-19T11:46:20Z</dcterms:modified>
  <cp:revision>2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